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202-5A80-4E6A-B4FE-EA6E84B4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5DD-609B-4C29-8195-10FC0F02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33839-0C69-454F-87E6-49DDAA06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F6E2-B6F6-4CF9-90E7-A1E11D7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9DC8E-FFF1-452E-88FD-48840163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0860A-3B61-4206-8808-CE4A6B6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E0B67-EC71-4A40-BAC9-6A78A81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4A448-92C7-466F-976E-D5BC106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8C12F-0693-4679-AB13-DF53D91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09C90-99CE-4059-A6D4-6E7DFE25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92E47-EEC4-4CBE-8767-914A20C7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6260A-E0DC-4DE0-A442-F5BA088A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C77-3860-47F0-83B2-A51FF2B3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F5294-AB56-4119-BE88-E23F8223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610FF-2980-4DA0-9D3F-1D4FB31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96EB5-88AB-4DB4-8969-3720F72E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C26B1-5737-4B04-92F8-6EF0101F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24FA4-E65E-4813-99ED-C5A7603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6FC67-E129-4172-AE97-54A662B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E0131-3344-4F68-A2C8-B7F52C7B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894B3-2660-4DD7-B7F9-A9BA961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9B7ED-6D7F-473E-B23E-FDF57390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AA28D-A24F-448A-B96D-B3E398E3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2A6-BC5A-4C4F-9194-09009511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AEFB1-3892-4D13-B572-BF7C0D0D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CE5E-2B82-4153-A3C5-F1901CEA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BD29B-569A-4564-9268-4477970B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974F3-4178-4C7C-A67E-8435DF86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D6B9-9A5E-4D68-B384-18D4BA4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CD73-5F5F-4996-BB62-4D75F3DA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6E083-3714-43BA-9C33-0B4AE6A6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36EA8-6FCB-4468-A026-66ABC9B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DB767-2073-4AC8-B68D-94771FF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93CC-2623-4CA5-8C9A-088B95E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332D-71CE-455E-A0BD-20A82255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F63BC-F9C6-43B8-91BC-8F151A8A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5968C-F5AB-4E30-BDB0-EC99E6B4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9CC97-7F6F-484A-A07E-F912FDEE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8609F-66C2-43BA-A7A5-EDE28A58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010CB-7EF1-4448-87DF-C53D3B6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1E116-2E6E-4E9F-B021-6D12D7B7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7C263-20C7-4701-B9B8-2E3A57E9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0A0DC-2655-4AC4-9983-B5D5E5C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3FC5E-B6E9-404C-9547-9C10DDD2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F3124-5FC2-45DC-80CE-DBF0FBD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1C7-9813-412C-A05A-0D6D2910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223DB-79D4-40EE-816B-4157AF05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E58C6-A4FE-4E93-87C9-A917B7F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C592E-2541-4608-99C5-1CB26E7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D7F6E-FA14-44DF-ADE2-2EA364CA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AF53E-B6F6-415C-B2F3-E0F97096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CC6A1-581E-44C2-B307-1B831DAA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7EEDE-115E-4249-8FDD-E5CEF409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7C06C-6302-43EE-B6A1-4D6EEA59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B21E2-8702-4986-866A-F828693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0053A-40CA-4E45-9A32-28169716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BAA4-2C81-473D-B19E-4F98E186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91209-6248-4D22-964F-27FB213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C703D-20AF-4C7E-AD8B-B738D6D1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EA4C0-DFE1-4B9C-89AE-212FF48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817AD-8974-4C9F-8B15-7286A75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649AF-C3F5-4687-BA13-18AA7644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85455-1AEC-4A56-8E16-5F46DB9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99CB8-F3C1-41D8-A8BE-2F219693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BCBC0-8E6C-41C4-A99C-A2B5B9FA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2E66E-8B11-400E-AFB8-A7D484A7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77AF8-92AD-4C75-A395-10DB6187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489A-87BB-4F4D-A654-D697574A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EBC45-5B4C-4F30-B9AF-E66DAEE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FC987-2D6A-47E1-98F8-0A6E8B0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FA676-5BE7-45B9-A729-C2ED1731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B48F6-A060-4E8E-9BF6-E5D41E7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10F97-F8DF-473B-BBBE-54CDC2E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3BB5B-5BFB-4FC8-A8FC-748CC4C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4D98F-0543-4EAE-9E04-D4B7A9BC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081C0-A76E-4FE4-9C29-0ECE8F90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8B46D-1200-4418-B7F1-850F5754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59C5E-CC4F-4B13-8EFB-D9D56AB0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52F7-7B31-4972-9B9B-39893E3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35756-8B47-4DB9-B129-7FAFF09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9EDBD-37D6-4A89-BFCA-E0665965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77260-5297-4A7E-981C-016F6DF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0A2C7-2BD0-4EF6-8632-67F67EF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0EE55-2CC6-45E8-892E-FE65C77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51E4F-2137-4B0D-B2B9-FB0A600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84617-98E0-4A0F-AC63-2B3B29B8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9F92D-46E0-4B6F-94A3-7B8F42D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929D3-DF8B-4143-B7EF-B6CBCAA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27562-23CA-4021-AFD8-CEFB65ED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8B3B-4B1D-4880-9EA9-39D2F2A1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CDA69-173B-4A39-AC47-66E559F5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EDE67-EAAA-47C0-8A16-417B7AE7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BC25F-1944-46F2-A9F3-8EB984F6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F2BE0-6D16-4DA2-BB71-9D49773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20580-AC27-4E03-AC34-975E73AF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872C6-42EA-44FB-BAF8-F49B1504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4C3E6-2AA8-40C5-A374-0940B01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C12DE-F391-4434-A6A5-409F7E5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3B3C2-2FCD-4E31-A767-10C1BFC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2A88C-C8B4-4299-8F92-63C3A8A2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8AD9-513B-42D2-A59E-FF87673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42279-A395-45D3-AFD5-7A1933A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8C032-E713-4C0D-9766-D6DA4B5F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E2512-6FD1-490C-8FC4-49341120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609D5-B737-4B4A-8B17-31B3C41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8BFFE-CD61-4AA5-8A0C-CFD8EDD3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5AA5F-0B51-4D8A-8BD4-C1F5CE2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1F93A-FFFE-4044-A7A7-39CDE84C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66E92-9029-4647-8CBC-8278B79D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656BD-1F36-4227-895A-63E2206A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AB331-4136-41AB-B961-3E76568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23C-E5CF-4FDA-AC7B-9FA861F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64F2-5D1E-4094-B4A6-0D0FD22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89E96-25A4-41C9-993F-A63E836D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AE3CC-C3BE-4280-A3D7-A9DC1E2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27037-AC15-4BCD-B76C-BFA968A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765AE-17DF-4D02-9975-4B2815F7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1A3AF-960D-4296-8203-E50072CF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A9F-DBA3-4897-BB10-F3B965D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C34-A5F5-4B90-A24D-EC3649B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D05-A92B-454B-A112-249B3279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9FA-FB18-413A-98FE-C889C2FF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92F6-B3FF-4072-AF4C-17DC21C8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168C-8009-46F2-85E4-C0053F4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CA91-71F2-49BD-BFAA-64441F9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AC2D-99C3-4045-987F-76BD53DB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9B24-6E09-4238-940D-054A1999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CC1-4685-4487-89B7-71537E5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9B0B-BA04-4129-AE4B-7795197B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707A-94A5-479A-84AE-76AE568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D7F4-D812-4690-85F0-8CF7368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54FA-EE74-4F8F-9307-966BC35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0023-DA92-40D0-98A8-9184D6F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8E63-0352-47D4-A2B8-F48E7311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8F29-ADEC-4D6A-85D4-90EA433A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BA0C-C2C8-4840-A571-72B8608D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6BBD-1735-4415-97E2-2074AAEC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EDAB-AAC6-4AB9-A6DC-C303BBDF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33C-D78D-4892-BFA7-C7E0F00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BBCB-F3A9-45C1-A679-F5F6F45D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C6F4-CD7D-4128-8F6C-2EAA0CF1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A5D3-2B23-491D-A64B-834D98E1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F2AD-738B-4A98-9024-BEB38A4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6EF3-FC8C-41DD-8F2F-933B085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3103-B60A-4AD6-9E17-91CF9E3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F4C4-393C-40E1-ADB6-856B0783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6B9D-D533-4350-945B-603A180F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944D-A4CD-40DE-8B59-91872274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7C73-8DE0-43DD-A22F-E20A4C1D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1A2-1B35-4C82-A10B-792E145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CE7C-108D-4AF2-9F3D-F2B47627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4039-C650-4A19-8FEF-06833FA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F082E-A963-4CBF-AB5D-BA00C756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E9DC-5994-4CAF-BD87-93FFE52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9B87-4898-4502-94C0-5A39CDD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CE457-FA23-4531-A7CE-069F6E4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73575-B23F-4278-9049-0CAAE95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4B43C-621E-4301-B012-18D50BF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6D85-F16D-4448-BE2C-49A790B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D39E-7BC6-4DD3-AA8B-7052317C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52A-8CDF-4CAB-9D65-CEE6962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AECD-3496-4B51-A551-E9533DD7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9643-BD2A-4F6E-A9B6-2A80091E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C09E-D314-442A-BD1A-9E873F7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CF74-EAA1-48E3-990D-B8EC729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F062-B55B-4D57-A1B4-5B405C4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F50A-ABB0-4353-84AB-D63EB22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CF24-60F9-4329-A713-A7EA820C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3898-440A-4A74-9E48-6E32739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A4F0E-1106-4D74-8263-DC805B4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957D0-55FB-4B82-8365-34D2C27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BC0-D515-4ECA-AF2C-357BC25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9BA4-7A53-4ECD-B9FB-C51CE28B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4846-DD05-47C1-98BF-19510765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5C9B-E086-4B2A-8DA5-0EEAAF84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E91FC-F3EC-4FC3-80C3-DF8DF8C6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337D1-F63D-4EA1-95BB-7EE5909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0D02-E455-4339-A547-47709A9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CFEA5-73CC-45D3-A3C1-F8FA8677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F5FD-78D8-4503-AF36-579AF33C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7DD9-4A2B-4F72-91ED-E4E80E66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4ACB-B5E5-49CE-AE93-6F35E6E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87B-6F32-46D3-8A20-15662733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F475-779F-4CA3-9F18-3F059FA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E208-DFB5-465A-A910-12709A3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6E4F-AD51-4A45-98FA-24C6B4F5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A343-2E43-4117-8413-8B971BE3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A485-F5E5-491A-B89A-752A22EB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AE215-356E-4218-81D9-CD695054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E5A2-9994-49B6-BB48-AD02179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0FEE-3207-4161-A8FF-9205526C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1CEA-D0E6-403D-9CB3-D2DEA994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6DF3B-5587-40E9-9511-791180EB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D18-CDCC-4197-99B5-8F6BC996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295E0-D98B-485B-8B18-263641C2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51332-84EE-4AD0-9246-8CC31FD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0F114-E888-4A7C-98B3-C4FCE377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38E59-EE7A-41A9-8E69-17179FC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0E7D6-6854-422E-9928-433C4EF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AC4EE-C0FD-44BB-B0AA-DEF5DE95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FF282-8E42-42FB-B475-B6739CF9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8D366-1798-476A-9BD3-0B84A46D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07B4B-7B20-4B58-8EB8-7A21DAE1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9007E-7BA6-4EC3-877B-76D85FD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49AA1-4A79-4B23-806D-85CD8CF63E82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23D6D-6898-4BBE-92D6-D98CB4B5B445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184C5-2D8B-44FD-80FB-58769493A626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85B4F-2F64-4AE7-856A-4E36C62CFE1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0A355-20FA-4478-A659-819200F3F518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C4B24-4920-4583-AF57-3F7FDC763580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CB9E1-DF69-499B-8B03-B535B10939B6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338BF-E7EB-4640-885C-B38C0B7BD660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4D371-C6E6-4194-BE23-51DEB7D5E7FB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70EB2-D700-4711-91CF-2B5D3FCF44F4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C4A92-2A51-46DF-BF4C-FBE3BA77A451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023E9-996E-4607-B88D-5DFF81D8475C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5ED9B-0D5E-46E2-B03D-3CADE99FACA7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8438F-1CB9-4A57-BF1E-A78E3E6D4FC0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9E2CA-494B-49B5-B43B-E70E14BBA4C3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AB03B-A02D-47A0-B537-419D01C75598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389EA-8805-4AC1-AEF7-57E5CDD7AFB0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37059-1A41-48E4-84FF-DE544F85CB78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136E0-73B1-4205-AB9A-4510863D3141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D769F-0848-498D-9776-96C86119859F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3570B-96D0-4CFE-BB30-E2F1976AD2ED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2986F-58DE-47F1-B332-02C33CF1FFF2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A0C19-A2A5-4CB9-B41D-23D46CEC08DE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81444-CCCC-438C-93A2-A6863F1B795F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6CB8A-0D1D-4A16-8452-899E5AF97D82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E2979-801E-487A-AB4E-D3474365199B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F3654-EF83-4F97-A886-C986F6A42D89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048FB-7C66-4776-A131-40EBA5E1E1CD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0B983-7326-4A7D-9A09-F7D5447591E5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CCCF0-871F-46A7-8B9E-9A7D1882DB1A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333D1-B34E-472F-9A9E-D1C7C2C5A75F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6C423-F5BF-4B5B-8B28-CD94787237F5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B448C-5981-4FF2-AB38-C79190499E0F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AA3CA-7D05-4521-9A86-4F7B043E14EA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ibliotecarezzo.it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84360" y="1483920"/>
            <a:ext cx="626112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900" spc="-1" strike="noStrike">
                <a:solidFill>
                  <a:srgbClr val="7b724f"/>
                </a:solidFill>
                <a:latin typeface="Modern No. 20"/>
              </a:rPr>
              <a:t>Relazione alla Performance anno 2022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7" name="Picture 2" descr="BCA Verticale 5x10"/>
          <p:cNvPicPr/>
          <p:nvPr/>
        </p:nvPicPr>
        <p:blipFill>
          <a:blip r:embed="rId1"/>
          <a:stretch/>
        </p:blipFill>
        <p:spPr>
          <a:xfrm>
            <a:off x="1042920" y="344520"/>
            <a:ext cx="2255760" cy="6222960"/>
          </a:xfrm>
          <a:prstGeom prst="rect">
            <a:avLst/>
          </a:prstGeom>
          <a:ln w="0">
            <a:noFill/>
          </a:ln>
        </p:spPr>
      </p:pic>
      <p:sp>
        <p:nvSpPr>
          <p:cNvPr id="1178" name="AutoShape 6"/>
          <p:cNvSpPr/>
          <p:nvPr/>
        </p:nvSpPr>
        <p:spPr>
          <a:xfrm>
            <a:off x="141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Rettangolo 3"/>
          <p:cNvSpPr/>
          <p:nvPr/>
        </p:nvSpPr>
        <p:spPr>
          <a:xfrm>
            <a:off x="4500720" y="3429000"/>
            <a:ext cx="44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«Ho saccheggiato le biblioteche pubbliche, e le ho trovate piene di tesori affondati»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(Virginia Woolf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8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042920" y="1773000"/>
            <a:ext cx="7416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OBIETTIVO STRATEGICO N. 2 (OB2):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 u="sng">
                <a:solidFill>
                  <a:srgbClr val="404040"/>
                </a:solidFill>
                <a:uFillTx/>
                <a:latin typeface="Century Gothic"/>
              </a:rPr>
              <a:t>Giornate di studio dedicate alle nuove acquisizioni di manoscritti e libri antichi a stamp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entury Gothic"/>
              </a:rPr>
              <a:t>In occasione dell’acquisto di nuovi testi antichi la Biblioteca ha organizzato un ciclo di incontri alla presenza di studiosi e professori universitari per illustrare alla cittadinanza l’importanza di tali acquisizion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404040"/>
                </a:solidFill>
                <a:latin typeface="Century Gothic"/>
              </a:rPr>
              <a:t>ALLA DATA DEL 31/12/2022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404040"/>
                </a:solidFill>
                <a:latin typeface="Century Gothic"/>
              </a:rPr>
              <a:t>L’OBIETTIVO RISULTA PIENAMENTE RAGGIUNT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Century Gothic"/>
              </a:rPr>
              <a:t>PUNTEGGIO ASSEGNATO DA NUCLEO DI VALUTAZIONE 10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Segnaposto piè di pagina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8" name="Segnaposto contenuto 4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3586320" cy="5072040"/>
          </a:xfrm>
          <a:prstGeom prst="rect">
            <a:avLst/>
          </a:prstGeom>
          <a:ln w="0">
            <a:noFill/>
          </a:ln>
        </p:spPr>
      </p:pic>
      <p:sp>
        <p:nvSpPr>
          <p:cNvPr id="1239" name="Segnaposto piè di pagina 3"/>
          <p:cNvSpPr/>
          <p:nvPr/>
        </p:nvSpPr>
        <p:spPr>
          <a:xfrm rot="5400000">
            <a:off x="5676120" y="70412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Century Gothic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1042560" y="1267920"/>
            <a:ext cx="7193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PERSONALE E VALUTAZIONE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n. 3   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dipendenti categoria B 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n. 1 dipendente categoria C        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n. 2   dipendenti categoria D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EDIA COMPLESSIVA = 102,2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EDIANA = 102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STDEV = 1,63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INIMO = 101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ASSIMO = 105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Alcune mansioni del servizio di front-office sono state temporaneamente garantite da personale LSU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Le mansioni dei due precedenti bibliotecari sono state assegnate in parte al personale rimasto in servizio, altre sono state affidate, attraverso gara pubblica, a ditta esterna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Segnaposto piè di pagina 2"/>
          <p:cNvSpPr/>
          <p:nvPr/>
        </p:nvSpPr>
        <p:spPr>
          <a:xfrm>
            <a:off x="4643280" y="616572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4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3. Bilancio della Bibliote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1619280" y="2133720"/>
            <a:ext cx="714672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Bilancio della Biblioteca è prevalentemente coperto dal Comune di Arezzo e dalla Regione Toscana, nel dettaglio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COMUNE DI AREZZO euro 434.500,00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REGIONE TOSCANA euro 64.422,3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MIBACT euro 8.732,1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ALTRE AMMINISTRAZIONI euro 26.617,0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ENTRATE PROPRIE da servizi al pubblico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euro 1.432,20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Altre entrate euro 23.591,08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Segnaposto piè di pagina 3"/>
          <p:cNvSpPr/>
          <p:nvPr/>
        </p:nvSpPr>
        <p:spPr>
          <a:xfrm>
            <a:off x="4859280" y="62373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CasellaDiTesto 6"/>
          <p:cNvSpPr/>
          <p:nvPr/>
        </p:nvSpPr>
        <p:spPr>
          <a:xfrm>
            <a:off x="1042920" y="1413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a65f12"/>
                </a:solidFill>
                <a:latin typeface="Century Gothic"/>
              </a:rPr>
              <a:t>ENTRATE DELLA BIBLIOTECA ANNO 202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6912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3. Bilancio della Bibliote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547280" y="1557360"/>
            <a:ext cx="7272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742217"/>
                </a:solidFill>
                <a:latin typeface="Candara"/>
              </a:rPr>
              <a:t>SPESE DELLA BIBLIOTECA  PER L’ANNO 202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OSTO DEL PERSONALE:  128.707,80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ACQUISTO LIBRI BIBLIOTECA:  26.810,69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ACQUISTO LIBRI PER RETE DOCUMENTARIA: 48.363,36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SERVIZI BIBLIOTECARI ESTERNALIZZATI: 96.031,26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ANUTENZIONE ASSISTENZA RETE INFORMATICA (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MPRESO SOTWARE GESTIONE RETE EOS.WEB E CLAVIS</a:t>
            </a: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): 17.756,00 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ANUTENZIONE PALAZZO PRETORIO E UTENZE: 68.848,23 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Segnaposto piè di pagina 3"/>
          <p:cNvSpPr/>
          <p:nvPr/>
        </p:nvSpPr>
        <p:spPr>
          <a:xfrm>
            <a:off x="1908000" y="6165720"/>
            <a:ext cx="47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913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7b724f"/>
                </a:solidFill>
                <a:latin typeface="Century Gothic"/>
              </a:rPr>
              <a:t>4. Patrimonio documentario </a:t>
            </a:r>
            <a:br>
              <a:rPr sz="2800"/>
            </a:br>
            <a:r>
              <a:rPr b="0" lang="it-IT" sz="2800" spc="-1" strike="noStrike">
                <a:solidFill>
                  <a:srgbClr val="7b724f"/>
                </a:solidFill>
                <a:latin typeface="Century Gothic"/>
              </a:rPr>
              <a:t>della Biblioteca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755280" y="1557360"/>
            <a:ext cx="806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404040"/>
                </a:solidFill>
                <a:latin typeface="Century Gothic"/>
              </a:rPr>
              <a:t>CONSISTENZA PATRIMONIO DOCUMENTARIO al 31.12.2021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anoscritti medievali e post-medievali: 596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el XV secolo (incunaboli):  197 oper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el XVI secolo (cinquecentine):  4.265 libr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al 1601 al 1830 : 21.586 libr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al 1830 al 2017: 157.100 document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Periodici antichi e correnti: 270 testat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Fondi Archivistici: 7 (per un totale di circa 1.990 filze archivistiche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ultimediale: 3.200 dv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Fondi speciali: Ipovedenti libri in braille 128, audiocassette 386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Fondi speciali: Carpitella 112 bobine e due filze archivistiche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5. Attività Bibliotecar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1979640" y="1700280"/>
            <a:ext cx="6184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Century Gothic"/>
              </a:rPr>
              <a:t>PROCESSI PORTAN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ogettazione dell’offert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delle Risorse Informativ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omozione dell’offert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Servizi agli Uten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Servizi Supplementar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Rete Documentaria Aretina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Segnaposto piè di pagina 3"/>
          <p:cNvSpPr/>
          <p:nvPr/>
        </p:nvSpPr>
        <p:spPr>
          <a:xfrm>
            <a:off x="4379760" y="6408720"/>
            <a:ext cx="307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061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5. Attività Bibliotecar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042560" y="1557000"/>
            <a:ext cx="7489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MACRO-ATTIVITA’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I. PROGETTAZIONE DELL’OFFERT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Definizione delle politiche e delle strategie general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ogettazione delle attività della Bibliotec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ogetto di ogni singola attività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dazione regolamenti e document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II. CONSERVAZIONE E GESTIONE DELLE RISORSE INFORMATIV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acquist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oni e scamb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l patrimonio librario antico e moderno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periodic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materiale multimedia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posito Legale ai sensi del DPR 252/2006 e L. 106/2004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visione delle raccol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Segnaposto piè di pagina 3"/>
          <p:cNvSpPr/>
          <p:nvPr/>
        </p:nvSpPr>
        <p:spPr>
          <a:xfrm>
            <a:off x="4379760" y="6408720"/>
            <a:ext cx="31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9" name="Picture 2" descr=""/>
          <p:cNvPicPr/>
          <p:nvPr/>
        </p:nvPicPr>
        <p:blipFill>
          <a:blip r:embed="rId1"/>
          <a:stretch/>
        </p:blipFill>
        <p:spPr>
          <a:xfrm>
            <a:off x="6948360" y="907920"/>
            <a:ext cx="1704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5. Attività Bibliotecar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116000" y="1915920"/>
            <a:ext cx="7192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III. PROMOZIONE DELL’OFFERT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Progettazione promozione (mostre, presentazioni, convegno, giornate di studio, incontri, ecc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ostruzione mailing lis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reazione di materiale promozional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ollaborazione con Ufficio Stampa del Comune di Arezz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Gestione sito web </a:t>
            </a:r>
            <a:r>
              <a:rPr b="0" lang="it-IT" sz="20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bibliotecarezzo.i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Gestione pagina Facebook e Instagram della Bibliotec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Animazioni e letture per bambin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Segnaposto piè di pagina 3"/>
          <p:cNvSpPr/>
          <p:nvPr/>
        </p:nvSpPr>
        <p:spPr>
          <a:xfrm>
            <a:off x="4379760" y="6408720"/>
            <a:ext cx="336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5. Attività Bibliotecari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971640" y="1844640"/>
            <a:ext cx="38224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V. GESTIONE SERVIZI AGLI UTEN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Lettura in se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esti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estito interbibliotecario e </a:t>
            </a:r>
            <a:r>
              <a:rPr b="0" i="1" lang="it-IT" sz="1800" spc="-1" strike="noStrike">
                <a:solidFill>
                  <a:srgbClr val="404040"/>
                </a:solidFill>
                <a:latin typeface="Century Gothic"/>
              </a:rPr>
              <a:t>Document Deliver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Century Gothic"/>
              </a:rPr>
              <a:t>Refere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Fotocopi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Riproduzioni digital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ostazioni internet e Wi-F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Visite guidat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859280" y="1844280"/>
            <a:ext cx="417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V.  GESTIONE SERVIZI SUPPLEMENTAR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Sezione Ragazz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Biblioteca in Ospeda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BiblioCoop via V.Vene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Bibliocoop viale Amendol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Casa dell’Energ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</a:t>
            </a:r>
            <a:r>
              <a:rPr b="0" i="1" lang="it-IT" sz="1800" spc="-1" strike="noStrike">
                <a:solidFill>
                  <a:srgbClr val="404040"/>
                </a:solidFill>
                <a:latin typeface="Century Gothic"/>
              </a:rPr>
              <a:t>stage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 universitari e tirocin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Segnaposto piè di pagina 4"/>
          <p:cNvSpPr/>
          <p:nvPr/>
        </p:nvSpPr>
        <p:spPr>
          <a:xfrm>
            <a:off x="4379760" y="6408720"/>
            <a:ext cx="35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800" spc="-1" strike="noStrike">
                <a:solidFill>
                  <a:srgbClr val="7b724f"/>
                </a:solidFill>
                <a:latin typeface="Century Gothic"/>
              </a:rPr>
              <a:t>1. Presentazione della Biblioteca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258920" y="1628640"/>
            <a:ext cx="7778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300" spc="-1" strike="noStrike">
                <a:solidFill>
                  <a:srgbClr val="404040"/>
                </a:solidFill>
                <a:latin typeface="Century Gothic"/>
              </a:rPr>
              <a:t>STORIA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L’Istituzione Biblioteca Città di Arezzo è stata costituita nel 1992, a seguito dell'entrata in vigore della L. 142/1990 e dallo scioglimento del Consorzio per la Gestione della Biblioteca Città di Arezzo fra la Provincia di Arezzo, il Comune di Arezzo, la Fraternita dei Laici e l'Accademia Petrarca di Lettere Arti e Scienze.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Dal 2009 l’Istituzione Biblioteca Città di Arezzo è diventata la biblioteca capo-fila della Rete Documentaria Aretina costituita da 28 biblioteche della provincia di Arezzo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300" spc="-1" strike="noStrike">
                <a:solidFill>
                  <a:srgbClr val="404040"/>
                </a:solidFill>
                <a:latin typeface="Century Gothic"/>
              </a:rPr>
              <a:t>MISSION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Il grande patrimonio librario della Biblioteca Città di Arezzo, rappresenta una delle maggiori raccolte librarie della Toscana e riunisce in sé la storia di biblioteche antiche appartenute a istituzioni come la Fraternita dei Laici o a privati come il Redi, il Fossombroni, il Gamurrini, ecc.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La Biblioteca vuole mettere al servizio della comunità dei lettori il proprio patrimonio e con il loro contributo vuole implementarlo e renderlo sempre più accessibile ai cittadini di ogni età e di ogni formazione culturale; vuole essere radicata nella propria comunità territoriale e nello stesso tempo aperta alle culture della contemporaneità, aperta al dialogo con le persone che la utilizzano e veicolo di un libero accesso alla formazione e alla conoscenza, attenta alle esigenze individuali e di gruppo, di studio, di apprendimento e di ricerca.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Superfice totale: 2.130 mq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Superfice per il pubblico: 560 mq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Metri lineari di scaffalature libri: 6.472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Postazioni sale di lettura : 195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Postazioni pc al pubblico: 14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Segnaposto piè di pagina 3"/>
          <p:cNvSpPr/>
          <p:nvPr/>
        </p:nvSpPr>
        <p:spPr>
          <a:xfrm>
            <a:off x="493236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02920" y="691920"/>
            <a:ext cx="6278760" cy="10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5. Attività Bibliotecarie</a:t>
            </a:r>
            <a:br>
              <a:rPr sz="3200"/>
            </a:br>
            <a:r>
              <a:rPr b="0" lang="it-IT" sz="2200" spc="-1" strike="noStrike">
                <a:solidFill>
                  <a:srgbClr val="262626"/>
                </a:solidFill>
                <a:latin typeface="Century Gothic"/>
              </a:rPr>
              <a:t>VI. GESTIONE RETE DOCUMENTARIA ARETINA</a:t>
            </a:r>
            <a:br>
              <a:rPr sz="2200"/>
            </a:br>
            <a:r>
              <a:rPr b="0" lang="it-IT" sz="2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971640" y="2060280"/>
            <a:ext cx="38210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edisposizione di progetti per richiesta di finanziamenti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Organizzazione delle riunioni di coordinamento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alizzazione dei progetti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entrate e uscite della re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acquisti di libri centralizzati e coordinati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alizzazione di attività di promozione di re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Organizzazione e realizzazione corsi di formazione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788000" y="1988640"/>
            <a:ext cx="3822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trollo delle rilevazioni statistiche delle Biblioteche della Rete (Monitoraggio Simonlib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Rapporti con Provincia di Arezzo, Regione Toscana e Comuni che fanno parte della Rete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sito web www.retedocumentaria.arezzo.i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l Catalogo unico della Rete Eos.web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l prestito interbibliotecario della re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Segnaposto piè di pagina 4"/>
          <p:cNvSpPr/>
          <p:nvPr/>
        </p:nvSpPr>
        <p:spPr>
          <a:xfrm>
            <a:off x="4379760" y="6408720"/>
            <a:ext cx="4008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606096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6. Servizi per il Pubblic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042560" y="1557360"/>
            <a:ext cx="3822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Orario di apertura dal Lunedì al Venerdì dalle 8.30 alle 19.30 e Sabato dalle 8.30 alle 13.30 (ridotto a lun, merc, ven e sab 8.30-13.30 e mart e giov 14.30-19.30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3 sale di Lettura per studio e consultazion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estito, di materiale librario, audiovisivi e e-book, per utenti e scuole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sultazione in sede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Servizio </a:t>
            </a:r>
            <a:r>
              <a:rPr b="0" i="1" lang="it-IT" sz="1700" spc="-1" strike="noStrike">
                <a:solidFill>
                  <a:srgbClr val="404040"/>
                </a:solidFill>
                <a:latin typeface="Century Gothic"/>
              </a:rPr>
              <a:t>referenc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mputer disponibili al pubblico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Internet e Wi- Fi all’interno dell’edificio e nei chiostr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Fotocopie, stampe e scannerizzazion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788000" y="1569960"/>
            <a:ext cx="38224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estito interbibliotecario nazionale e internaziona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sultazione catalogo on-line in biblioteca e da rete web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700" spc="-1" strike="noStrike">
                <a:solidFill>
                  <a:srgbClr val="404040"/>
                </a:solidFill>
                <a:latin typeface="Century Gothic"/>
              </a:rPr>
              <a:t>Desiderata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 (richiesta di acquisto libri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Visite guidate per le scuo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cessione Sala Conferenz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Didattica per le scuo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Adesione al Progetto nazionale Nati per Legger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Adesione al Progetto nazionale SBN del catalogo unico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MediaLibraryOnLine (MLOL) biblioteca digita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Segnaposto piè di pagina 4"/>
          <p:cNvSpPr/>
          <p:nvPr/>
        </p:nvSpPr>
        <p:spPr>
          <a:xfrm>
            <a:off x="4379760" y="640872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7. Sedi Decentrate </a:t>
            </a:r>
            <a:br>
              <a:rPr sz="3200"/>
            </a:b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262626"/>
                </a:solidFill>
                <a:latin typeface="Century Gothic"/>
              </a:rPr>
              <a:t>Punti di lettura e prestito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042920" y="1916280"/>
            <a:ext cx="751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Sezione Ragazzi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Fornisce un servizio di base per utenti dai </a:t>
            </a: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0 ai 14 anni</a:t>
            </a: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, proponendosi come luogo dove i ragazzi  possono scegliere in libertà quando e cosa leggere attraverso un approccio ai libri stimolante e piacevole. Attività di animazione, letture e laboratori didattici per scuole.</a:t>
            </a: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Biblioteca presso Ospedale San Donato di Arezzo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(in collaborazione con: ASL8 - AUSER - Centro Soc. Pescaiola - AVO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Rivolto a tutte le persone che vanno, lavorano e sono ricoverate in ospedale, la biblioteca offre un servizio di prestito circolante nei reparti dell’ospedale e un punto di prestito, posto a piano terra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Segnaposto piè di pagina 3"/>
          <p:cNvSpPr/>
          <p:nvPr/>
        </p:nvSpPr>
        <p:spPr>
          <a:xfrm>
            <a:off x="4379760" y="6408720"/>
            <a:ext cx="343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605952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7. Sedi Decentrat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Punti di lettura e prestito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899640" y="1989000"/>
            <a:ext cx="720108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Bibliocoop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(presso Supermercato via V. Veneto e presso Centro Comm.le Setteponti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La sede in via V. Veneto è stata inaugurata a giugno 2013, nella quale sono a disposizione più di 2.400 pubblicazioni per la lettura e per il prestito, sia per adulti che per bambini. La sede presso il Centro Comm.le Setteponti è stata inaugurata nel 2016, nel quale sono a disposizione più d 1.200 pubblicazioni tra libri per adulti e bambini e film in dvd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entury Gothic"/>
              </a:rPr>
              <a:t>Casa dell’Energia (Ex Fonderia Bastanzetti)</a:t>
            </a: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La sede inaugurata il 12 maggio 2018 conserva una raccolta di libri dedicati all’energia rinnovabile, l’ambiente, il riciclo dei materiali, le energie alternative, la qualità della vita e il benessere della persona. Attualmente si trovano 600 pubblicazione in accrescimento costant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Segnaposto piè di pagina 3"/>
          <p:cNvSpPr/>
          <p:nvPr/>
        </p:nvSpPr>
        <p:spPr>
          <a:xfrm>
            <a:off x="4379760" y="6408720"/>
            <a:ext cx="3648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47280" y="60444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8. </a:t>
            </a:r>
            <a:r>
              <a:rPr b="0" lang="it-IT" sz="2400" spc="-1" strike="noStrike">
                <a:solidFill>
                  <a:srgbClr val="262626"/>
                </a:solidFill>
                <a:latin typeface="Century Gothic"/>
              </a:rPr>
              <a:t>Tariffe dei servizi a pagamento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971640" y="2060640"/>
            <a:ext cx="417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ncessione sale conferenze e chiostro 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100,00 per un solo giorno di utilizzo delle sale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Turini e Fossombroni,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35,00 al giorno per i successivi giorni di utilizzo continuativo delle sale;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60,00 per un solo giorno di utilizzo del chiostro,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25,00 al giorno per i successivi giorni di utilizzo del chiostro.</a:t>
            </a:r>
            <a:br>
              <a:rPr sz="1500"/>
            </a:b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produzione fotostatica su carta (fotocopie):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In bianco e nero 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4: € 0,10 per pagina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3: € 0,15 per pagin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A colori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4: € 0,60 per pagina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3: € 1,20 per pagina</a:t>
            </a:r>
            <a:br>
              <a:rPr sz="1400"/>
            </a:br>
            <a:br>
              <a:rPr sz="1400"/>
            </a:br>
            <a:br>
              <a:rPr sz="1500"/>
            </a:b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5076360" y="2204640"/>
            <a:ext cx="3822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produzione digitale tramite scanner planetario (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per scansione si intende la digitalizzazione di una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singola pagina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•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n fornitura di file: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costo della prima scansione: € 1,50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coso delle successive scansioni: € 0,50 cadauna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•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n fornitura di file e riproduzione su carta: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costo della prima scansione: € 2,00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tardo consegna libri e multimediali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Sanzione per ogni giorno di ritardo nella restituzione di un documento: € 0,20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Segnaposto piè di pagina 4"/>
          <p:cNvSpPr/>
          <p:nvPr/>
        </p:nvSpPr>
        <p:spPr>
          <a:xfrm>
            <a:off x="507672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618920" y="623880"/>
            <a:ext cx="69152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9. Altre attività svolt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18920" y="1644480"/>
            <a:ext cx="352116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Dal 15 settembre al 23 ottobre un nuovo ciclo di incontri con scrittrici denominato “Scaffali”,  incentrato sull'editoria femminile al fine di dare voce e maggiore visibilità a donne e autrici contemporanee (Silvia Romani, Maura Corassi, Cristina dell'Acqua)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Sabato 12 novembre è stata realizzata l'iniziativa denominata “Le parole Scappate”, in occasione della settimana celebrativa della Giornata della Gentilezza, articolata in incontri, letture e laboratori utili ad indagare il concetto di gentilezza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Rassegna di cultura artistico-letteraria denominata “Dialogues”, prevista nel periodo dal 25 novembre al 20 febbraio 2023, promossa dal critico d'arte Fabio Migliorati, Feltrinelli Edizioni e Maretti Editore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Presentazione del volume di Federico Canaccini dal titolo “Il Medioevo in 21 battaglie”, Laterza, 26 novembre presso la Sala conferenze con gli interventi del Prof. Franco Franceschi dell'Università di Siena e del Prof. Leonardo Magionami Presidente del Corso di Laurea in Storia e Filosofia dell'Università di Siena – Arezzo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5363640" y="1915920"/>
            <a:ext cx="31705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III edizione del Festival “Leggere ci unisce – Arezzo dei Lettori”, 25 e 26 giugno, festival letterario presso la Fortezza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Rassegna “Zenzero – centrifuga di parole, energia della mente” nei giorni 7, 8 e 9 ottobre e le presentazioni dei libri di Lucrezia Lombardo in data 8 luglio e Vittorio Casillo in data 25 novembre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Compartecipazione per il catalogo della mostra dell'artista Fabio Viale promossa dalla Fondazione Guido d'Arezzo intitolata “Aurum” inaugurata il 19 giugno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31 agosto si è svolto in collaborazione con la Libreria La Feltrinelli Point di Arezzo, l'incontro con il Prof. Carlo Ginzburg nel quale è stato presentato il libro “Indagini su Piero” il giorno 31 agosto nel Sagrato della Basilica di S. Francesco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Segnaposto piè di pagina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Century Gothic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Prestiti totali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Segnaposto piè di pagina 3"/>
          <p:cNvSpPr/>
          <p:nvPr/>
        </p:nvSpPr>
        <p:spPr>
          <a:xfrm>
            <a:off x="4356000" y="6237360"/>
            <a:ext cx="343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1" name="CasellaDiTesto 1"/>
          <p:cNvSpPr/>
          <p:nvPr/>
        </p:nvSpPr>
        <p:spPr>
          <a:xfrm>
            <a:off x="8102520" y="289872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ndara"/>
              </a:rPr>
              <a:t>43.222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2" name="Segnaposto contenuto 3" descr=""/>
          <p:cNvPicPr/>
          <p:nvPr/>
        </p:nvPicPr>
        <p:blipFill>
          <a:blip r:embed="rId1"/>
          <a:stretch/>
        </p:blipFill>
        <p:spPr>
          <a:xfrm>
            <a:off x="971640" y="1917720"/>
            <a:ext cx="7777080" cy="3887640"/>
          </a:xfrm>
          <a:prstGeom prst="rect">
            <a:avLst/>
          </a:prstGeom>
          <a:ln w="0">
            <a:noFill/>
          </a:ln>
        </p:spPr>
      </p:pic>
      <p:sp>
        <p:nvSpPr>
          <p:cNvPr id="1293" name="CasellaDiTesto 4"/>
          <p:cNvSpPr/>
          <p:nvPr/>
        </p:nvSpPr>
        <p:spPr>
          <a:xfrm>
            <a:off x="3924360" y="214488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entury Gothic"/>
              </a:rPr>
              <a:t>58.334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42920" y="623520"/>
            <a:ext cx="74916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Prestiti interbibliotecari passivi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6" name="Segnaposto contenuto 3" descr=""/>
          <p:cNvPicPr/>
          <p:nvPr/>
        </p:nvPicPr>
        <p:blipFill>
          <a:blip r:embed="rId1"/>
          <a:stretch/>
        </p:blipFill>
        <p:spPr>
          <a:xfrm>
            <a:off x="1042920" y="193356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10. Analisi dati anno 2022</a:t>
            </a:r>
            <a:br>
              <a:rPr sz="3600"/>
            </a:br>
            <a:r>
              <a:rPr b="0" lang="it-IT" sz="3100" spc="-1" strike="noStrike">
                <a:solidFill>
                  <a:srgbClr val="262626"/>
                </a:solidFill>
                <a:latin typeface="Century Gothic"/>
              </a:rPr>
              <a:t>Presti interbibliotecari attivi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9" name="Segnaposto contenuto 3" descr=""/>
          <p:cNvPicPr/>
          <p:nvPr/>
        </p:nvPicPr>
        <p:blipFill>
          <a:blip r:embed="rId1"/>
          <a:stretch/>
        </p:blipFill>
        <p:spPr>
          <a:xfrm>
            <a:off x="1332000" y="2049480"/>
            <a:ext cx="7223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3600"/>
            </a:br>
            <a:r>
              <a:rPr b="0" lang="it-IT" sz="3100" spc="-1" strike="noStrike">
                <a:solidFill>
                  <a:srgbClr val="262626"/>
                </a:solidFill>
                <a:latin typeface="Century Gothic"/>
              </a:rPr>
              <a:t>Rilevazione presenze feb-marzo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AutoShape 7"/>
          <p:cNvSpPr/>
          <p:nvPr/>
        </p:nvSpPr>
        <p:spPr>
          <a:xfrm>
            <a:off x="141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3" name="Segnaposto contenuto 3" descr=""/>
          <p:cNvPicPr/>
          <p:nvPr/>
        </p:nvPicPr>
        <p:blipFill>
          <a:blip r:embed="rId1"/>
          <a:stretch/>
        </p:blipFill>
        <p:spPr>
          <a:xfrm>
            <a:off x="1314360" y="2060640"/>
            <a:ext cx="7220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12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7b724f"/>
                </a:solidFill>
                <a:latin typeface="Century Gothic"/>
              </a:rPr>
              <a:t>1. Presentazione della Bibliotec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835280" y="19162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Century Gothic"/>
              </a:rPr>
              <a:t>ORGANI DELLA BIBLIOTEC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li organi dell'Istituzione Biblioteca Città di Arezzo sono i seguenti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Presidente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Consiglio di amministrazione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Direttore (Dirigente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Tutti sono nominati dal Sindac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Segnaposto piè di pagina 3"/>
          <p:cNvSpPr/>
          <p:nvPr/>
        </p:nvSpPr>
        <p:spPr>
          <a:xfrm>
            <a:off x="4975200" y="6269040"/>
            <a:ext cx="30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6" name="Picture 2" descr=""/>
          <p:cNvPicPr/>
          <p:nvPr/>
        </p:nvPicPr>
        <p:blipFill>
          <a:blip r:embed="rId1"/>
          <a:stretch/>
        </p:blipFill>
        <p:spPr>
          <a:xfrm>
            <a:off x="6588000" y="3357720"/>
            <a:ext cx="142092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3200"/>
            </a:b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Rilevazione presenze giugno/luglio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6" name="Segnaposto contenuto 3" descr=""/>
          <p:cNvPicPr/>
          <p:nvPr/>
        </p:nvPicPr>
        <p:blipFill>
          <a:blip r:embed="rId1"/>
          <a:stretch/>
        </p:blipFill>
        <p:spPr>
          <a:xfrm>
            <a:off x="1547640" y="2176560"/>
            <a:ext cx="69868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464646"/>
                </a:solidFill>
                <a:latin typeface="Century Gothic"/>
              </a:rPr>
              <a:t>10. Analisi dati anno 2022 </a:t>
            </a:r>
            <a:br>
              <a:rPr sz="3700"/>
            </a:br>
            <a:r>
              <a:rPr b="0" lang="it-IT" sz="2800" spc="-1" strike="noStrike">
                <a:solidFill>
                  <a:srgbClr val="464646"/>
                </a:solidFill>
                <a:latin typeface="Century Gothic"/>
              </a:rPr>
              <a:t>Nuovi utenti iscritti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9" name="Immagine 3" descr=""/>
          <p:cNvPicPr/>
          <p:nvPr/>
        </p:nvPicPr>
        <p:blipFill>
          <a:blip r:embed="rId1"/>
          <a:stretch/>
        </p:blipFill>
        <p:spPr>
          <a:xfrm>
            <a:off x="1521000" y="1989000"/>
            <a:ext cx="70135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464646"/>
                </a:solidFill>
                <a:latin typeface="Century Gothic"/>
              </a:rPr>
              <a:t>10. Analisi dati anno 2022 </a:t>
            </a:r>
            <a:br>
              <a:rPr sz="3700"/>
            </a:br>
            <a:r>
              <a:rPr b="0" lang="it-IT" sz="2800" spc="-1" strike="noStrike">
                <a:solidFill>
                  <a:srgbClr val="464646"/>
                </a:solidFill>
                <a:latin typeface="Century Gothic"/>
              </a:rPr>
              <a:t>Bilancio entrate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2" name="Segnaposto contenuto 3" descr=""/>
          <p:cNvPicPr/>
          <p:nvPr/>
        </p:nvPicPr>
        <p:blipFill>
          <a:blip r:embed="rId1"/>
          <a:stretch/>
        </p:blipFill>
        <p:spPr>
          <a:xfrm>
            <a:off x="1314360" y="2060640"/>
            <a:ext cx="7220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464646"/>
                </a:solidFill>
                <a:latin typeface="Century Gothic"/>
              </a:rPr>
              <a:t>10. Analisi dati anno 2022 </a:t>
            </a:r>
            <a:br>
              <a:rPr sz="3700"/>
            </a:br>
            <a:r>
              <a:rPr b="0" lang="it-IT" sz="2800" spc="-1" strike="noStrike">
                <a:solidFill>
                  <a:srgbClr val="464646"/>
                </a:solidFill>
                <a:latin typeface="Century Gothic"/>
              </a:rPr>
              <a:t>Bilancio uscite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5" name="Segnaposto contenuto 3" descr=""/>
          <p:cNvPicPr/>
          <p:nvPr/>
        </p:nvPicPr>
        <p:blipFill>
          <a:blip r:embed="rId1"/>
          <a:stretch/>
        </p:blipFill>
        <p:spPr>
          <a:xfrm>
            <a:off x="1314360" y="2060640"/>
            <a:ext cx="7220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72104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262626"/>
                </a:solidFill>
                <a:latin typeface="Century Gothic"/>
              </a:rPr>
              <a:t>11. Prevenzione della corruzione e trasparenza 2022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1258560" y="1480680"/>
            <a:ext cx="7427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Con deliberazione del CDA n. 2 del 17.01.2018 è stato nominato, ai sensi del combinato disposto dell’art. 1 comma 7 della legge 6 novembre 2012, n. 190 e s.m.i. e dell’art. 43, comma 1. del D.Lgs. 33/2013 quale Responsabile della prevenzione della corruzione e della trasparenza dell’Istituzione Biblioteca Città di Arezzo,  il Segretario Generale del Comune di Arezzo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Il Responsabile per la prevenzione della corruzione e della trasparenza dell’Istituzione Biblioteca Città di Arezzo, ha elaborato e predisposto il Piano triennale di prevenzione della corruzione e della trasparenza del Comune di Arezzo, al cui interno ha trovato collocazione  anche la valutazione del rischio e le misure atte a contrastarlo, relativamente ai processi dell’Istituzione Biblioteca, previa redazione delle relative schede da parte dell’Istituzione.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In materia di trasparenza l’Istituzione ha curato la pubblicazione e l’aggiornamento sul sito istituzionale dei dati e delle informazioni per i quali il D. Lgs. 33/2013 dispone l’ obbligo di pubblicazione.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Il RPCT ha elaborato la relazione annuale relativa all’attuazione del Piano triennale di prevenzione della corruzione e della trasparenza, pubblicata sul sito istituzionale del Comune di Arezzo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8" name="Segnaposto piè di pagina 3"/>
          <p:cNvSpPr/>
          <p:nvPr/>
        </p:nvSpPr>
        <p:spPr>
          <a:xfrm>
            <a:off x="4379760" y="6408720"/>
            <a:ext cx="3648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7b724f"/>
                </a:solidFill>
                <a:latin typeface="Century Gothic"/>
              </a:rPr>
              <a:t>1. Presentazione della Bibliotec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763640" y="162828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04040"/>
                </a:solidFill>
                <a:latin typeface="Century Gothic"/>
              </a:rPr>
              <a:t>DIREZION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Dirigente: Alfonso Pisacan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Direttore delegato (P.O): Laura Guadagn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04040"/>
                </a:solidFill>
                <a:latin typeface="Century Gothic"/>
              </a:rPr>
              <a:t>PERSONALE DIPENDENTE IN SERVIZIO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n. 1 - Bibliotecario: Categoria 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n. 3 - Ufficio Amministrativo: n. 1 categoria D, n. 1 categoria B, n. 1 categoria 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n. 1 - Personale Front-office:  categoria B </a:t>
            </a: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–( n. 1 categoria B fino a marzo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TOTALE N. 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Segnaposto piè di pagina 2"/>
          <p:cNvSpPr/>
          <p:nvPr/>
        </p:nvSpPr>
        <p:spPr>
          <a:xfrm>
            <a:off x="4788000" y="6222960"/>
            <a:ext cx="27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7694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971280" y="1654200"/>
            <a:ext cx="69850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 la Delibera n. 31 del 23/10/2019 il Consiglio di Amministrazione ha adottato per l’Istituzione Biblioteca Città di Arezzo il Sistema di valutazione della performance, già approvato dalla Giunta comunale per il Comune di Arezzo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 Delibera n. 20 del 09/06/2022, il Consiglio di Amministrazione della Biblioteca ha approvato la nomina del Nucleo di Valutazion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 Delibera n. 12 del 12/04/2022, il Consiglio di Amministrazione della Biblioteca ha approvato il Piano della performance per gli anni 2021-2023 comprensivo degli Obiettivi strategici e del Piano delle Attività, per la valutazione delle attività ‘ordinarie’ della Biblioteca e del personal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Segnaposto piè di pagina 2"/>
          <p:cNvSpPr/>
          <p:nvPr/>
        </p:nvSpPr>
        <p:spPr>
          <a:xfrm>
            <a:off x="4379760" y="6408720"/>
            <a:ext cx="327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Picture 2" descr=""/>
          <p:cNvPicPr/>
          <p:nvPr/>
        </p:nvPicPr>
        <p:blipFill>
          <a:blip r:embed="rId1"/>
          <a:stretch/>
        </p:blipFill>
        <p:spPr>
          <a:xfrm>
            <a:off x="5867280" y="5373720"/>
            <a:ext cx="1546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800" spc="-1" strike="noStrike">
                <a:solidFill>
                  <a:srgbClr val="7b724f"/>
                </a:solidFill>
                <a:latin typeface="Century Gothic"/>
              </a:rPr>
              <a:t>2. Ciclo della Performance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Segnaposto piè di pagina 2"/>
          <p:cNvSpPr/>
          <p:nvPr/>
        </p:nvSpPr>
        <p:spPr>
          <a:xfrm rot="5400000">
            <a:off x="6781680" y="495288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Rettangolo arrotondato 9"/>
          <p:cNvSpPr/>
          <p:nvPr/>
        </p:nvSpPr>
        <p:spPr>
          <a:xfrm>
            <a:off x="1116000" y="1773360"/>
            <a:ext cx="187164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CasellaDiTesto 10"/>
          <p:cNvSpPr/>
          <p:nvPr/>
        </p:nvSpPr>
        <p:spPr>
          <a:xfrm>
            <a:off x="1104840" y="1917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Bilancio di Previs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Rettangolo arrotondato 11"/>
          <p:cNvSpPr/>
          <p:nvPr/>
        </p:nvSpPr>
        <p:spPr>
          <a:xfrm>
            <a:off x="3287880" y="1803240"/>
            <a:ext cx="187308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CasellaDiTesto 12"/>
          <p:cNvSpPr/>
          <p:nvPr/>
        </p:nvSpPr>
        <p:spPr>
          <a:xfrm>
            <a:off x="3276720" y="181296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pprovazione Obiettivi strategic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Rettangolo arrotondato 13"/>
          <p:cNvSpPr/>
          <p:nvPr/>
        </p:nvSpPr>
        <p:spPr>
          <a:xfrm>
            <a:off x="5580000" y="1789200"/>
            <a:ext cx="187164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CasellaDiTesto 14"/>
          <p:cNvSpPr/>
          <p:nvPr/>
        </p:nvSpPr>
        <p:spPr>
          <a:xfrm>
            <a:off x="5651640" y="17794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pprovazione Piano della Performan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Rettangolo arrotondato 17"/>
          <p:cNvSpPr/>
          <p:nvPr/>
        </p:nvSpPr>
        <p:spPr>
          <a:xfrm>
            <a:off x="2127240" y="3040200"/>
            <a:ext cx="1657440" cy="79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CasellaDiTesto 18"/>
          <p:cNvSpPr/>
          <p:nvPr/>
        </p:nvSpPr>
        <p:spPr>
          <a:xfrm>
            <a:off x="2200320" y="3184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ttività ordinar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Rettangolo arrotondato 19"/>
          <p:cNvSpPr/>
          <p:nvPr/>
        </p:nvSpPr>
        <p:spPr>
          <a:xfrm>
            <a:off x="4438800" y="3068640"/>
            <a:ext cx="18144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CasellaDiTesto 20"/>
          <p:cNvSpPr/>
          <p:nvPr/>
        </p:nvSpPr>
        <p:spPr>
          <a:xfrm>
            <a:off x="4618080" y="31845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Obiettivi operativ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Rettangolo arrotondato 21"/>
          <p:cNvSpPr/>
          <p:nvPr/>
        </p:nvSpPr>
        <p:spPr>
          <a:xfrm>
            <a:off x="1547640" y="4114800"/>
            <a:ext cx="5256360" cy="57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Assegn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CasellaDiTesto 22"/>
          <p:cNvSpPr/>
          <p:nvPr/>
        </p:nvSpPr>
        <p:spPr>
          <a:xfrm>
            <a:off x="1987560" y="426564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ssegnazione Obiettivi individual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Rettangolo arrotondato 23"/>
          <p:cNvSpPr/>
          <p:nvPr/>
        </p:nvSpPr>
        <p:spPr>
          <a:xfrm>
            <a:off x="1547640" y="4795920"/>
            <a:ext cx="525636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Assegn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CasellaDiTesto 24"/>
          <p:cNvSpPr/>
          <p:nvPr/>
        </p:nvSpPr>
        <p:spPr>
          <a:xfrm>
            <a:off x="2071800" y="4869000"/>
            <a:ext cx="43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Verifica: obiettivi individuali, obiettivi strategici e attività ordinar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Rettangolo arrotondato 25"/>
          <p:cNvSpPr/>
          <p:nvPr/>
        </p:nvSpPr>
        <p:spPr>
          <a:xfrm>
            <a:off x="1547640" y="5605560"/>
            <a:ext cx="5256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Assegn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CasellaDiTesto 26"/>
          <p:cNvSpPr/>
          <p:nvPr/>
        </p:nvSpPr>
        <p:spPr>
          <a:xfrm>
            <a:off x="2039760" y="5811840"/>
            <a:ext cx="43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Valutazione finale del dipend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Connettore 1 38"/>
          <p:cNvSpPr/>
          <p:nvPr/>
        </p:nvSpPr>
        <p:spPr>
          <a:xfrm>
            <a:off x="4078440" y="2738520"/>
            <a:ext cx="0" cy="711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Connettore 1 40"/>
          <p:cNvSpPr/>
          <p:nvPr/>
        </p:nvSpPr>
        <p:spPr>
          <a:xfrm>
            <a:off x="3784680" y="3435480"/>
            <a:ext cx="654120" cy="140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Connettore 1 42"/>
          <p:cNvSpPr/>
          <p:nvPr/>
        </p:nvSpPr>
        <p:spPr>
          <a:xfrm>
            <a:off x="2955960" y="3830760"/>
            <a:ext cx="0" cy="2840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Connettore 1 44"/>
          <p:cNvSpPr/>
          <p:nvPr/>
        </p:nvSpPr>
        <p:spPr>
          <a:xfrm>
            <a:off x="5346720" y="3830760"/>
            <a:ext cx="0" cy="2840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Connettore 1 46"/>
          <p:cNvSpPr/>
          <p:nvPr/>
        </p:nvSpPr>
        <p:spPr>
          <a:xfrm>
            <a:off x="2050920" y="2708280"/>
            <a:ext cx="0" cy="216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Connettore 1 48"/>
          <p:cNvSpPr/>
          <p:nvPr/>
        </p:nvSpPr>
        <p:spPr>
          <a:xfrm>
            <a:off x="6516720" y="2725560"/>
            <a:ext cx="0" cy="19872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Connettore 1 50"/>
          <p:cNvSpPr/>
          <p:nvPr/>
        </p:nvSpPr>
        <p:spPr>
          <a:xfrm>
            <a:off x="2039760" y="2924280"/>
            <a:ext cx="44769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Parentesi quadra chiusa 53"/>
          <p:cNvSpPr/>
          <p:nvPr/>
        </p:nvSpPr>
        <p:spPr>
          <a:xfrm>
            <a:off x="6804000" y="4449600"/>
            <a:ext cx="432000" cy="563760"/>
          </a:xfrm>
          <a:custGeom>
            <a:avLst/>
            <a:gdLst>
              <a:gd name="textAreaLeft" fmla="*/ 0 w 432000"/>
              <a:gd name="textAreaRight" fmla="*/ 303120 w 432000"/>
              <a:gd name="textAreaTop" fmla="*/ 18000 h 563760"/>
              <a:gd name="textAreaBottom" fmla="*/ 54576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90"/>
                  <a:pt x="21600" y="1379"/>
                </a:cubicBezTo>
                <a:lnTo>
                  <a:pt x="21600" y="20221"/>
                </a:lnTo>
                <a:cubicBezTo>
                  <a:pt x="21600" y="20911"/>
                  <a:pt x="10800" y="21600"/>
                  <a:pt x="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Parentesi quadra chiusa 54"/>
          <p:cNvSpPr/>
          <p:nvPr/>
        </p:nvSpPr>
        <p:spPr>
          <a:xfrm>
            <a:off x="6804000" y="5295960"/>
            <a:ext cx="432000" cy="619200"/>
          </a:xfrm>
          <a:custGeom>
            <a:avLst/>
            <a:gdLst>
              <a:gd name="textAreaLeft" fmla="*/ 0 w 432000"/>
              <a:gd name="textAreaRight" fmla="*/ 303120 w 432000"/>
              <a:gd name="textAreaTop" fmla="*/ 17640 h 619200"/>
              <a:gd name="textAreaBottom" fmla="*/ 601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28"/>
                  <a:pt x="21600" y="1255"/>
                </a:cubicBezTo>
                <a:lnTo>
                  <a:pt x="21600" y="20345"/>
                </a:lnTo>
                <a:cubicBezTo>
                  <a:pt x="21600" y="20973"/>
                  <a:pt x="10800" y="21600"/>
                  <a:pt x="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Parentesi quadra aperta 55"/>
          <p:cNvSpPr/>
          <p:nvPr/>
        </p:nvSpPr>
        <p:spPr>
          <a:xfrm>
            <a:off x="1258920" y="4449600"/>
            <a:ext cx="288720" cy="563760"/>
          </a:xfrm>
          <a:custGeom>
            <a:avLst/>
            <a:gdLst>
              <a:gd name="textAreaLeft" fmla="*/ 84960 w 288720"/>
              <a:gd name="textAreaRight" fmla="*/ 289080 w 288720"/>
              <a:gd name="textAreaTop" fmla="*/ 11880 h 563760"/>
              <a:gd name="textAreaBottom" fmla="*/ 551880 h 5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2"/>
                  <a:pt x="0" y="923"/>
                </a:cubicBezTo>
                <a:lnTo>
                  <a:pt x="0" y="20677"/>
                </a:lnTo>
                <a:cubicBezTo>
                  <a:pt x="0" y="21139"/>
                  <a:pt x="108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Parentesi quadra aperta 56"/>
          <p:cNvSpPr/>
          <p:nvPr/>
        </p:nvSpPr>
        <p:spPr>
          <a:xfrm>
            <a:off x="1258920" y="5295960"/>
            <a:ext cx="288720" cy="700200"/>
          </a:xfrm>
          <a:custGeom>
            <a:avLst/>
            <a:gdLst>
              <a:gd name="textAreaLeft" fmla="*/ 84960 w 288720"/>
              <a:gd name="textAreaRight" fmla="*/ 289080 w 288720"/>
              <a:gd name="textAreaTop" fmla="*/ 11880 h 700200"/>
              <a:gd name="textAreaBottom" fmla="*/ 68832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2"/>
                  <a:pt x="0" y="743"/>
                </a:cubicBezTo>
                <a:lnTo>
                  <a:pt x="0" y="20857"/>
                </a:lnTo>
                <a:cubicBezTo>
                  <a:pt x="0" y="21229"/>
                  <a:pt x="108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Rettangolo arrotondato 31"/>
          <p:cNvSpPr/>
          <p:nvPr/>
        </p:nvSpPr>
        <p:spPr>
          <a:xfrm>
            <a:off x="1569960" y="6307200"/>
            <a:ext cx="5256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Rendicont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76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800" spc="-1" strike="noStrike">
                <a:solidFill>
                  <a:srgbClr val="7b724f"/>
                </a:solidFill>
                <a:latin typeface="Century Gothic"/>
              </a:rPr>
              <a:t>2. Ciclo della Performance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900000" y="1484280"/>
            <a:ext cx="7407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300" spc="-1" strike="noStrike">
                <a:solidFill>
                  <a:srgbClr val="404040"/>
                </a:solidFill>
                <a:latin typeface="Century Gothic"/>
                <a:ea typeface="Arial"/>
              </a:rPr>
              <a:t>ATTIVITA’ ORDINARIE: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Attività amministrativa-contabile, redazione di atti amministrativi per la realizzazione di tutte le attività della biblioteca e della Rete documentaria aretina;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Promozione alla lettura inventariazione e schedatura nel catalogo del materiale documentario, </a:t>
            </a:r>
            <a:r>
              <a:rPr b="0" i="1" lang="it-IT" sz="1300" spc="-1" strike="noStrike">
                <a:solidFill>
                  <a:srgbClr val="404040"/>
                </a:solidFill>
                <a:latin typeface="Century Gothic"/>
              </a:rPr>
              <a:t>reference</a:t>
            </a: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,  acquisto nuovi documenti, gestione del sito web, organizzazione di attività culturali, servizio prestito e lettura in sede, distribuzione e ricollocazione materiale librario, servizio fotocopie e internet;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Conservazione del patrimonio librario corretta conservazione del materiale antico e moderno, gestione deposito legale, digitalizzazione materiali della biblioteca e di altri enti e gestione immagini, catalogazione; 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Gestione Rete documentaria aretina redazione progetti, regolamenti, convenzioni e rendiconti per le biblioteche della provincia di Arezzo, sviluppo e realizzazione delle linee d'azione della rete, organizzazione riunioni e gruppi di lavoro, coordinamento con uffici regionali e provinciali; 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Gestione e custodia Palazzo Pretorio inerente la conservazione, il mantenimento e il controllo impianti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300" spc="-1" strike="noStrike">
                <a:solidFill>
                  <a:srgbClr val="404040"/>
                </a:solidFill>
                <a:latin typeface="Century Gothic"/>
              </a:rPr>
              <a:t>AL 31 DICEMBRE 2022 LE ATTIVITA’ PREVISTE SONO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300" spc="-1" strike="noStrike">
                <a:solidFill>
                  <a:srgbClr val="404040"/>
                </a:solidFill>
                <a:latin typeface="Century Gothic"/>
              </a:rPr>
              <a:t>STATE PIENALMENTE RAGGIUNTE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Century Gothic"/>
              </a:rPr>
              <a:t>PUNTEGGIO ASSEGNATO DA NUCLEO DI VALUTAZIONE 100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Segnaposto piè di pagina 2"/>
          <p:cNvSpPr/>
          <p:nvPr/>
        </p:nvSpPr>
        <p:spPr>
          <a:xfrm>
            <a:off x="4379760" y="6408720"/>
            <a:ext cx="35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7524720" y="5950080"/>
            <a:ext cx="106056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618920" y="623520"/>
            <a:ext cx="6915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0" name="Immagine 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1820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683424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042920" y="170028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Century Gothic"/>
              </a:rPr>
              <a:t>OBIETTIVO STRATEGICO N. 1 (OB1)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 u="sng">
                <a:solidFill>
                  <a:srgbClr val="404040"/>
                </a:solidFill>
                <a:uFillTx/>
                <a:latin typeface="Century Gothic"/>
              </a:rPr>
              <a:t>La Biblioteca Digitale:  servizi ai cittadini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entury Gothic"/>
              </a:rPr>
              <a:t>Digitalizzazione materiale antico e raro come manoscritti e periodici antichi e apposizione con relativa registrazione delle etichette di antitaccheggio RFID nei libri di consultazione e prestit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404040"/>
                </a:solidFill>
                <a:latin typeface="Century Gothic"/>
              </a:rPr>
              <a:t>ALLA DATA DEL 31/12/2022 L’OBIETTIVO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404040"/>
                </a:solidFill>
                <a:latin typeface="Century Gothic"/>
              </a:rPr>
              <a:t>RISULTA PIENAMENTE RAGGIUNTO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Century Gothic"/>
              </a:rPr>
              <a:t>PUNTEGGIO ASSEGNATO DA NUCLEO DI VALUTAZIONE 100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Segnaposto piè di pagina 3"/>
          <p:cNvSpPr/>
          <p:nvPr/>
        </p:nvSpPr>
        <p:spPr>
          <a:xfrm>
            <a:off x="4379760" y="64087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9:19:56Z</dcterms:created>
  <dc:creator>tirocinio1</dc:creator>
  <dc:description/>
  <dc:language>en-US</dc:language>
  <cp:lastModifiedBy>Laura Guadagni</cp:lastModifiedBy>
  <cp:lastPrinted>2019-04-02T08:10:52Z</cp:lastPrinted>
  <dcterms:modified xsi:type="dcterms:W3CDTF">2024-11-27T14:09:07Z</dcterms:modified>
  <cp:revision>259</cp:revision>
  <dc:subject/>
  <dc:title>Relazione sulla Performance  anno 2012</dc:title>
</cp:coreProperties>
</file>